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463B-AD1D-43FA-A37E-57B6CA6EC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F952-54CE-4DC3-929A-E87B17649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C31-BD65-4655-AEEA-B8729B98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6AE-376D-4141-857C-980DE4E7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9A4-10E7-4473-8635-68EBB35B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401-8D27-442A-9D8F-84175256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F36-929F-4117-9AF7-877A2621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9CB-0EF2-4AEA-82B8-DED89664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6CEB-C1E3-41E8-8FEF-0C5C21E9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B3C-4A04-4FD2-B664-65B99A83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52F-AB86-4EE2-BA07-61E17CCF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6BF1-99E1-4A8D-9C31-8BEEC6F7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AA3-4BAC-4974-82AB-1CC0296D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99B5-49E2-4145-A523-505DAE65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69A8-6C4D-432F-9A5D-B69C9108C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ailene  Mo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Jailene Mor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ailene Moreno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447920"/>
            <a:ext cx="6019920" cy="9144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828800"/>
            <a:ext cx="5029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05120" y="15238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6934320" y="1828800"/>
            <a:ext cx="76176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Jailene. Yo vivo en nueva york. Yo tengo catorce años. Yo tengo una hermana y un hermano. Yo soy alta y joven. Mi gusta leer y escrib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19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Qué tal amiga mi familia te extraña. ¿Cuándo vienes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llos están felices en la casa con mi hermano. Adió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 días. Mi familia está bien y ellos son calmado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42670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ambién los extraño mucho. Ustedes como están? Mi familia es intelig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80060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trabajando en mi proyecto y estoy con mis hermanos tenemos que estudiar. ¿y tu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666880" y="6019920"/>
            <a:ext cx="48006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voy a desayunar porque quiero comer. Nosotros estamos bien y somos una familia loca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 5 sceonds ago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1981080" y="1828800"/>
            <a:ext cx="434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¿cómo está tu familia y cómo es tu familia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¿Qué estás haciend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7:53Z</dcterms:modified>
  <cp:revision>115</cp:revision>
  <dc:subject/>
  <dc:title>Profile</dc:title>
</cp:coreProperties>
</file>